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6CF-99EB-4123-8173-FAB1E4F3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E71-D917-40C9-BFAB-F0A7063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A06-FF09-4B08-98B3-4B2EC4AC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0D0-F7BD-4042-9976-7BB7A2B7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5BD-BD9D-4384-B1AD-C4C26BD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21A7-83D3-412A-B4DB-C30FB61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5CEC-570E-48CA-8E67-C41618E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142-3876-4F32-8518-97C9458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E6A5-166E-4563-BAC5-2F16585F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0A1-F5D0-4EE6-9ACF-634A2ECA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817-29BA-404B-AC1D-9D3E367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2B6-BEAD-414D-8C39-DC7548BC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E43-BD40-4B53-8E85-C5B078D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C609-55B2-49D1-B188-B58E30E4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1DBA-9614-406D-A185-EA8C8349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3D6B-A1B6-4E1D-9FC8-FC71A367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9D6-287D-4787-BB2D-2364AC2A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5C5E-0CCD-45F7-8DBF-10151B1C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96FE-3AE2-4E6D-B40D-B11547B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5C2A-AFC9-4046-9C5B-9BD1B39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09C6-4DD8-446E-9A17-48F73ED8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F5D2-7D39-4F9D-88CA-B03CCE94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F78-8DE7-45E8-945D-33DE641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07D1-2023-4594-BEA0-27E66D1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F0BF-146A-4B1C-9503-8095EC2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A75E-20A0-4CC7-BC76-C47599D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8B41-12EF-4BD7-ACA2-4DA541F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C721-4C56-4D6A-A592-EC192C7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73C3-AD8F-4F6A-92C3-BDBB7036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F16C-4208-44BD-B104-AC06997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C23D-0A72-4C45-AF82-C1BF197C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2754-1FEA-4017-BC84-A990CC3F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AC15B-1D33-4879-A0EE-5820BCD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BEF-6051-4120-B7A8-FFA04B4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9CAF1-D6FD-4D67-9F73-707B7C25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04FE-15C4-4AED-A481-14CC56E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0F66-DF4E-4982-AF41-CC0778B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482D-1061-4AC3-A21A-6D47DEDA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E087-8511-4435-AE5C-86E50A3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673C-12E0-4D32-A5C4-F809368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696C-96B0-480A-835E-13B8AB92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0FCF-2F34-4EBC-8B68-317C026E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2147-1CFD-40F7-8C83-282C18A1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8540-6611-44AD-8047-BC27D409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93A-F8D5-4EA2-AE46-5105DFDC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FA09-5114-4FC5-8A0C-0D551C2D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396F-5B21-419A-9081-C9369E2C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A4A4-B81C-4BE0-8CF0-E9759668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5404-939D-4B2D-9C5E-B2C050E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12A7-22FC-4142-830D-E9C6780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1095-20A0-49EE-884D-CC42E4C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EF3E-22BC-4CDB-8773-BF52026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ED46-D306-4A88-9169-15D6140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E83C-1AF8-4D21-B150-E6AFA1A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68542-E113-4C40-BAA4-4D9873DC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470-E915-4523-B738-3349B0ED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5717-1E8A-402F-93AF-B27AEF80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C3E3-82DA-4660-AE63-EA8E8D5B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2391-8F06-45A4-84BE-A8170BAF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49DB-06B0-4E09-A723-A7B062F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C354-B1B4-4035-989E-8F2A6D9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65D9-6BE4-44D0-A2C8-E40E185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73AE-7DC1-44A0-B122-358F1737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9B5D0-75D0-4E8E-9EFA-6CDDE0E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A622-D056-449F-96A3-2BEB0725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B3A8-D569-49A7-8BAD-148DD8F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7B7-580C-4FB9-BEEE-B40DB7B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7283-2A0C-4325-A64F-2F4D7474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709C-73D2-40E0-BDB9-7A308C34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8C60-0E7B-4C90-BC13-141C4537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8220-74E4-4ACB-AD38-4AFE5698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ED65-FBAB-49D0-BD8D-11D691F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6C087-E54E-477D-BBBF-6521862B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E750-526C-4F23-941C-F9B84E5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A0DB-A643-41B1-9C73-3D849ED9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F307-5E8A-43F1-A694-1C92316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DD8A-D34F-4E78-A8A7-E432B05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B89-BBDD-4A4F-A16B-3EE51B8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A7FB-5A04-44B1-BBB8-A4C181F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4FEB-311E-4C6F-B008-3BDB78A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9CA08-A0B7-4B8A-B41D-0E4A7AB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608F-25DD-4BD7-A8CF-9D52BD4D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E2C88-E36B-409A-95B8-76B66988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F3D9-B4E5-4DD9-92D1-3F6F57A1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2A69-824D-4803-BC2B-FB1E70C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4ABA-C9F3-40D3-B13F-8E07E18C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642B3-4413-4DC1-A60F-5DDC838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B86DE-5984-453D-BB3D-37258EA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6D3-C8CA-44FD-B8F3-595ECCE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83C0-5C24-436F-AC40-DEBA20F7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2FA3-49A1-44DB-8BC2-71B8199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7C60-90BD-4C4F-A71D-C9433F4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75882-53FC-4FC2-8F35-CCF4B78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521DF-E715-4040-B213-543EB0BD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0BE3-001C-4D9C-8A8C-CDD63EF7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94ADB-2675-4BA2-BA1F-4082C207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8E3-81C4-469A-AD35-306738DD592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63F-3A47-4265-83E3-CD2C8A1803C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B3A7-84E9-4A35-A616-DDA1CA761F58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D14-B254-4A21-812C-1C796F12616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775-3D53-493A-A159-D7B56940360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C4A-2D12-4E1D-8C40-75C9692BB6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606E-FECB-47B9-A12B-EF87E86AF13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1AA5-8812-47B8-A53A-27CE346506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BBB4-68FA-4675-9A13-811EEF89AAB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AD7F-753C-4E81-B409-B14453D57A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47BE-DB42-400F-BA5F-EFE23C8F4B9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2ABE-9581-4C02-82D3-6181843585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CA97-3576-4549-A8FB-A44E0F3A0C4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4F9D-E73C-45F4-87B4-1986B50BC4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557-ED9A-4184-AB42-28EAD3363A1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E96-2436-4D5F-9FDC-D18FA15FD6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Lucida Sans Unicode"/>
              </a:rPr>
              <a:t>What causes weather?</a:t>
            </a:r>
            <a:endParaRPr b="0" lang="en-US" sz="5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Which kind of air sinks? 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2. Why does it sink?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645080" y="268200"/>
            <a:ext cx="40482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192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A cold front is when a cold air mass overtakes a warm air mas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97512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800600" y="503280"/>
            <a:ext cx="41911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Lucida Sans Unicode"/>
              </a:rPr>
              <a:t>A warm front is when a warm air mass overtakes a cold air mass . 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. What types of air masses are involved in a cold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2. What is a warm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3. What is the difference between a cold and warm front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57117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76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A stationary front is when a cold air mass and a warm air mass meet and both stop moving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454320" indent="-34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053560" cy="1347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349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190440" y="2362320"/>
            <a:ext cx="67438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News Gothic MT"/>
              </a:rPr>
              <a:t>An occluded front is when a cold front overtakes a warm front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5410080" y="4876920"/>
            <a:ext cx="3302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1. What is a stationary front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2. What is an occluded front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ach group should get 4 boards and one marker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Anticipatory Set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Bellringer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nput (Notes on Fronts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Guided Practice – Front ID Game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Independent Practice – Handout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Closing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Lucida Sans Unicode"/>
              </a:rPr>
              <a:t>A warm air mass overtakes a cold air mass.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Lucida Sans Unicode"/>
              </a:rPr>
              <a:t>A cold front overtakes a warm front.</a:t>
            </a:r>
            <a:endParaRPr b="0" lang="en-US" sz="5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Cold and warm air masses meet and little movement occurs.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Lucida Sans Unicode"/>
              </a:rPr>
              <a:t>A cold air mass moves under the warm air mass, forcing the warm air up.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Lucida Sans Unicode"/>
              </a:rPr>
              <a:t>What do meteorologist call a large body of air that has similar temperatures and moisture throughout it? </a:t>
            </a:r>
            <a:endParaRPr b="0" lang="en-US" sz="5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Lucida Sans Unicode"/>
              </a:rPr>
              <a:t>What type of air rises?</a:t>
            </a:r>
            <a:endParaRPr b="0" lang="en-US" sz="5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450720" y="285264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Lucida Sans Unicode"/>
              </a:rPr>
              <a:t>After today you will be able to define an air mass and front.  You will also be able to identify types of fronts.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Lucida Sans Unicode"/>
              </a:rPr>
              <a:t>80% Mastery</a:t>
            </a:r>
            <a:endParaRPr b="0" lang="en-US" sz="5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38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7566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50292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An air mass is a large body of air that has similar temperature and moisture throughou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31000" indent="-39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0" y="1571760"/>
            <a:ext cx="50292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412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Lucida Sans Unicode"/>
              </a:rPr>
              <a:t>1. What is an air mass?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Lucida Sans Unicode"/>
              </a:rPr>
              <a:t>A front forms when two air masses meet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560" y="7621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Warm air rises because it is less dense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Sans Unicode"/>
              </a:rPr>
              <a:t>Cold air sinks because it is more dense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01:50Z</dcterms:created>
  <dc:creator>VB</dc:creator>
  <dc:description/>
  <dc:language>en-US</dc:language>
  <cp:lastModifiedBy>Caroline Roth</cp:lastModifiedBy>
  <dcterms:modified xsi:type="dcterms:W3CDTF">2011-05-24T02:25:54Z</dcterms:modified>
  <cp:revision>38</cp:revision>
  <dc:subject/>
  <dc:title>WIND!</dc:title>
</cp:coreProperties>
</file>